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11D-3D09-4604-BC72-839746C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302-88CF-4629-989C-EFA4F3A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653-26BE-48E7-BB5A-3CEA7A7B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82F-653B-491A-8E93-2D524164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327-2A36-4526-92C8-30462CDC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A2A-7E24-43AA-B1FE-A2A0E60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242-9D0B-42C6-AC75-FC991D7E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428-8EFE-4832-8A9C-DF75275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A3E-038C-4B6D-A7DC-BB341106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373-9386-4439-BE00-0380EF4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651-23CC-4857-A4A4-096C59B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4ED-9DFC-4074-8D74-D369A0A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539-5B60-43EA-9107-F70ABE8FA1D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8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Industrialization  PH RD 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96080" y="1138320"/>
            <a:ext cx="1282680" cy="322200"/>
            <a:chOff x="7696080" y="1138320"/>
            <a:chExt cx="1282680" cy="322200"/>
          </a:xfrm>
        </p:grpSpPr>
        <p:sp>
          <p:nvSpPr>
            <p:cNvPr id="45" name=""/>
            <p:cNvSpPr/>
            <p:nvPr/>
          </p:nvSpPr>
          <p:spPr>
            <a:xfrm>
              <a:off x="7729920" y="12301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11383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14605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524720" y="616572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5480" y="1479600"/>
            <a:ext cx="2311200" cy="6238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RD 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Industr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Thonha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288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L C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Klaus Kroe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Process&amp;Qu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M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.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Concept &amp;Technology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Udo Bee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772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lmut Rieseneg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rtwin Sch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29240" y="5065560"/>
            <a:ext cx="138564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LP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Becker-Bam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2288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L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Ralph Mailae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288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ia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WT 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0"/>
            <a:endCxn id="49" idx="2"/>
          </p:cNvCxnSpPr>
          <p:nvPr/>
        </p:nvCxnSpPr>
        <p:spPr>
          <a:xfrm flipH="1" flipV="1" rot="5400000">
            <a:off x="1934640" y="2409480"/>
            <a:ext cx="2962440" cy="23508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3" idx="0"/>
            <a:endCxn id="49" idx="2"/>
          </p:cNvCxnSpPr>
          <p:nvPr/>
        </p:nvCxnSpPr>
        <p:spPr>
          <a:xfrm flipH="1" flipV="1" rot="5400000">
            <a:off x="2704680" y="3179520"/>
            <a:ext cx="2962440" cy="810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0"/>
            <a:endCxn id="49" idx="2"/>
          </p:cNvCxnSpPr>
          <p:nvPr/>
        </p:nvCxnSpPr>
        <p:spPr>
          <a:xfrm flipV="1" rot="16200000">
            <a:off x="3475440" y="3219120"/>
            <a:ext cx="2962440" cy="731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0"/>
            <a:endCxn id="49" idx="2"/>
          </p:cNvCxnSpPr>
          <p:nvPr/>
        </p:nvCxnSpPr>
        <p:spPr>
          <a:xfrm flipV="1" rot="16200000">
            <a:off x="4222440" y="2472120"/>
            <a:ext cx="2962440" cy="2225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1" idx="3"/>
            <a:endCxn id="49" idx="2"/>
          </p:cNvCxnSpPr>
          <p:nvPr/>
        </p:nvCxnSpPr>
        <p:spPr>
          <a:xfrm flipV="1">
            <a:off x="2933640" y="2103480"/>
            <a:ext cx="165780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2" idx="3"/>
            <a:endCxn id="49" idx="2"/>
          </p:cNvCxnSpPr>
          <p:nvPr/>
        </p:nvCxnSpPr>
        <p:spPr>
          <a:xfrm flipV="1">
            <a:off x="2933640" y="2103480"/>
            <a:ext cx="165780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1"/>
            <a:endCxn id="49" idx="2"/>
          </p:cNvCxnSpPr>
          <p:nvPr/>
        </p:nvCxnSpPr>
        <p:spPr>
          <a:xfrm rot="10800000">
            <a:off x="4590720" y="2103480"/>
            <a:ext cx="153216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0" idx="1"/>
            <a:endCxn id="49" idx="2"/>
          </p:cNvCxnSpPr>
          <p:nvPr/>
        </p:nvCxnSpPr>
        <p:spPr>
          <a:xfrm rot="10800000">
            <a:off x="4590720" y="2103120"/>
            <a:ext cx="153216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beeker</cp:lastModifiedBy>
  <dcterms:modified xsi:type="dcterms:W3CDTF">2006-05-23T16:50:28Z</dcterms:modified>
  <cp:revision>135</cp:revision>
  <dc:subject/>
  <dc:title>PowerPoint 簡報</dc:title>
</cp:coreProperties>
</file>